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8.wmf" ContentType="image/x-wmf"/>
  <Override PartName="/ppt/media/image16.jpeg" ContentType="image/jpeg"/>
  <Override PartName="/ppt/media/image14.gif" ContentType="image/gif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E7D-5D98-45B4-9ED7-35406D7E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F82-1157-4A7C-AC03-6E365FEC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ED6-31AD-4DD2-9829-A621FAB2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A22-1255-4146-B4E2-A3247729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93F-9998-4C19-82C4-1DCCEA5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9E8-23FB-4124-9040-FCDDE1F3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273-8344-476F-A94B-53F93F7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3D5-8D46-4C7C-A00B-563CDAE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C12-E8C2-4D03-98B1-97649B09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FFD-C420-43BA-B123-17313287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514-495E-4F9D-BF0E-69246C8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3D2-8D0B-496B-B78F-8890E7A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59DB-EB27-4F55-94BD-1F7A1F88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240" y="11430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be the miss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explain how you got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5321520" cy="5214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267080" y="11430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267080" y="15955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267080" y="21286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308480" y="26622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267080" y="3195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267080" y="36529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419720" y="4643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495680" y="41860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5867280" y="4572000"/>
            <a:ext cx="1371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NYS STATE TEST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MATH 7 &amp; 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MP00604_0000[1]"/>
          <p:cNvPicPr/>
          <p:nvPr/>
        </p:nvPicPr>
        <p:blipFill>
          <a:blip r:embed="rId1"/>
          <a:stretch/>
        </p:blipFill>
        <p:spPr>
          <a:xfrm>
            <a:off x="7086600" y="228600"/>
            <a:ext cx="1663560" cy="1611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57200" y="3703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NYS MATH RE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ALGEBRA CCSS 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MP00604_0000[1]"/>
          <p:cNvPicPr/>
          <p:nvPr/>
        </p:nvPicPr>
        <p:blipFill>
          <a:blip r:embed="rId2"/>
          <a:stretch/>
        </p:blipFill>
        <p:spPr>
          <a:xfrm>
            <a:off x="7162920" y="3733920"/>
            <a:ext cx="1663560" cy="1611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1676520"/>
          </a:xfrm>
          <a:prstGeom prst="rect">
            <a:avLst/>
          </a:prstGeom>
          <a:ln w="0">
            <a:noFill/>
          </a:ln>
        </p:spPr>
      </p:pic>
      <p:sp>
        <p:nvSpPr>
          <p:cNvPr id="87" name="Content Placeholder 1"/>
          <p:cNvSpPr/>
          <p:nvPr/>
        </p:nvSpPr>
        <p:spPr>
          <a:xfrm>
            <a:off x="380880" y="49528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MCj03974820000[1]"/>
          <p:cNvPicPr/>
          <p:nvPr/>
        </p:nvPicPr>
        <p:blipFill>
          <a:blip r:embed="rId1"/>
          <a:stretch/>
        </p:blipFill>
        <p:spPr>
          <a:xfrm>
            <a:off x="228600" y="1752480"/>
            <a:ext cx="2286000" cy="4894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2701440" y="1752480"/>
            <a:ext cx="610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% Tests  an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%  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%  Participation/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743200" y="418932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Grade = Average of the 4 marking peri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DSCF4155.JPG"/>
          <p:cNvPicPr/>
          <p:nvPr/>
        </p:nvPicPr>
        <p:blipFill>
          <a:blip r:embed="rId1"/>
          <a:stretch/>
        </p:blipFill>
        <p:spPr>
          <a:xfrm>
            <a:off x="2438280" y="1371600"/>
            <a:ext cx="4724640" cy="5335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MPj04018150000[1]"/>
          <p:cNvPicPr/>
          <p:nvPr/>
        </p:nvPicPr>
        <p:blipFill>
          <a:blip r:embed="rId1"/>
          <a:stretch/>
        </p:blipFill>
        <p:spPr>
          <a:xfrm>
            <a:off x="6172200" y="3581280"/>
            <a:ext cx="2606760" cy="2057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Coach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walk Coach 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out/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han Academy – Youtu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6-2015 NYS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4123980000[1]"/>
          <p:cNvPicPr/>
          <p:nvPr/>
        </p:nvPicPr>
        <p:blipFill>
          <a:blip r:embed="rId2"/>
          <a:stretch/>
        </p:blipFill>
        <p:spPr>
          <a:xfrm>
            <a:off x="6553080" y="2209680"/>
            <a:ext cx="24782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perative / Hands-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Solving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to Daily Li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MMj03957140000[1]"/>
          <p:cNvPicPr/>
          <p:nvPr/>
        </p:nvPicPr>
        <p:blipFill>
          <a:blip r:embed="rId1"/>
          <a:stretch/>
        </p:blipFill>
        <p:spPr>
          <a:xfrm>
            <a:off x="6553080" y="1447920"/>
            <a:ext cx="2248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6294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A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 Math Websi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math curriculum, rules &amp; routines, grading system, links to math websites, daily homework) http://sites.google.com/site/ramsmath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trcsmshw.wikispaces.com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communication is throug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Email me at rambuena@gmail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the use of 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GENDA boo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Sign dai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receive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ogress re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fore the end of each marking peri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895480" y="228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CS Curriculum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5800" y="6019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urces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o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1371600" cy="13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7772400" y="5491080"/>
            <a:ext cx="1371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MPj04394490000[1]"/>
          <p:cNvPicPr/>
          <p:nvPr/>
        </p:nvPicPr>
        <p:blipFill>
          <a:blip r:embed="rId1"/>
          <a:stretch/>
        </p:blipFill>
        <p:spPr>
          <a:xfrm>
            <a:off x="4038480" y="3048120"/>
            <a:ext cx="149400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MCj04244920000[1]"/>
          <p:cNvPicPr/>
          <p:nvPr/>
        </p:nvPicPr>
        <p:blipFill>
          <a:blip r:embed="rId2"/>
          <a:stretch/>
        </p:blipFill>
        <p:spPr>
          <a:xfrm>
            <a:off x="7149960" y="5334120"/>
            <a:ext cx="1994040" cy="119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’s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429000" y="3124080"/>
            <a:ext cx="609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257800" y="320040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486400" y="4343400"/>
            <a:ext cx="609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114800" y="533412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1523880" y="121932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= A + 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9" descr="MCj04160640000[1]"/>
          <p:cNvPicPr/>
          <p:nvPr/>
        </p:nvPicPr>
        <p:blipFill>
          <a:blip r:embed="rId3"/>
          <a:stretch/>
        </p:blipFill>
        <p:spPr>
          <a:xfrm>
            <a:off x="1600200" y="3657600"/>
            <a:ext cx="1555920" cy="207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MCj04160660000[1]"/>
          <p:cNvPicPr/>
          <p:nvPr/>
        </p:nvPicPr>
        <p:blipFill>
          <a:blip r:embed="rId4"/>
          <a:stretch/>
        </p:blipFill>
        <p:spPr>
          <a:xfrm>
            <a:off x="609480" y="3733920"/>
            <a:ext cx="16322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Email: rambuena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HW websit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 trcsmshw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HW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ites.google.com/site/ramsmath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040" y="327636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ATH 7 / 8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confused-math"/>
          <p:cNvPicPr/>
          <p:nvPr/>
        </p:nvPicPr>
        <p:blipFill>
          <a:blip r:embed="rId1"/>
          <a:stretch/>
        </p:blipFill>
        <p:spPr>
          <a:xfrm>
            <a:off x="457200" y="609480"/>
            <a:ext cx="385776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WordArt 15"/>
          <p:cNvSpPr txBox="1"/>
          <p:nvPr/>
        </p:nvSpPr>
        <p:spPr>
          <a:xfrm>
            <a:off x="4724280" y="457200"/>
            <a:ext cx="4067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th's Up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MATH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361960"/>
            <a:ext cx="4114800" cy="2438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Impact"/>
                <a:ea typeface="Aharoni"/>
              </a:rPr>
              <a:t>REGULAR MAT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 7 – Periods M-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 8 – Periods M-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7242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4724280" y="2362320"/>
            <a:ext cx="4191120" cy="41148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haroni"/>
                <a:ea typeface="Aharoni"/>
              </a:rPr>
              <a:t>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haroni"/>
              </a:rPr>
              <a:t>Grade 7 – split into 3 small groups (3X A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haroni"/>
              </a:rPr>
              <a:t>Grade 8 – split into 3 small groups (2X A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6"/>
          <p:cNvCxnSpPr/>
          <p:nvPr/>
        </p:nvCxnSpPr>
        <p:spPr>
          <a:xfrm flipH="1">
            <a:off x="2514240" y="1447920"/>
            <a:ext cx="175320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7"/>
          <p:cNvCxnSpPr/>
          <p:nvPr/>
        </p:nvCxnSpPr>
        <p:spPr>
          <a:xfrm>
            <a:off x="4343400" y="1447920"/>
            <a:ext cx="190584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NYS-licensed middle/high school math tea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years teaching middle school math here in the U.S. and the Philipp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e of the co-teaching-learning coordinators of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7 and 8 Curriculum ( Common Core State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320" y="3352680"/>
            <a:ext cx="8991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NER MATH TEACHERS (Math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Grade : Raymond, Ram, Y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8t Grade : Victor, Ram, Y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ET–  ICT in 701 and 8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LAB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EBRA CLASS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ian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bra lessons in preparation for Math regents test on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RICHMENT CLASS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ym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th application and problem solving + Algebra Regents Pr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C CLASS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stery and practice of pre-alge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LAB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GEBRA CLASS with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Yiann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lgebra lessons in preparation for Math regents test on 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NRICHMENT CLASS with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cto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ath application and problem solv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IC CLASS with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astery and practice of pre-algeb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52280" y="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 YORK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mmon Core State Standards (CC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8380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12.nysed.gov/ciai/common_core_standards/pdfdocs/nysp12cclsmath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List of Common Core Mathematical Standards"/>
          <p:cNvPicPr/>
          <p:nvPr/>
        </p:nvPicPr>
        <p:blipFill>
          <a:blip r:embed="rId1"/>
          <a:stretch/>
        </p:blipFill>
        <p:spPr>
          <a:xfrm>
            <a:off x="254160" y="2209680"/>
            <a:ext cx="8889840" cy="42674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7" descr=""/>
          <p:cNvPicPr/>
          <p:nvPr/>
        </p:nvPicPr>
        <p:blipFill>
          <a:blip r:embed="rId2"/>
          <a:stretch/>
        </p:blipFill>
        <p:spPr>
          <a:xfrm>
            <a:off x="914400" y="1200240"/>
            <a:ext cx="75963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52280" y="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 YORK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mmon Core State Standards (CC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8380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12.nysed.gov/ciai/common_core_standards/pdfdocs/nysp12cclsmath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7" descr=""/>
          <p:cNvPicPr/>
          <p:nvPr/>
        </p:nvPicPr>
        <p:blipFill>
          <a:blip r:embed="rId1"/>
          <a:stretch/>
        </p:blipFill>
        <p:spPr>
          <a:xfrm>
            <a:off x="1481040" y="1200240"/>
            <a:ext cx="645660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0570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view Ratios and Proportional Relatio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proportional relationships and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 to solve real-world and mathemat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umber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and extend previous understand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operations with fractions to add, subtrac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y, and divide rational numb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ons and Equ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properties of operations to gene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lent express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real-life and mathematical probl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numerical and algebraic expressions and  equa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5"/>
          <p:cNvSpPr/>
          <p:nvPr/>
        </p:nvSpPr>
        <p:spPr>
          <a:xfrm>
            <a:off x="4572000" y="1981080"/>
            <a:ext cx="4419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, construct and describe geometr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s and describe the relationships betw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real-life and mathematical probl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ing angle measure, area, surface are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volu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s and Prob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random sampling to draw inferences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p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informal comparative inferences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opul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chance processes and develop, us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valuate probability model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52280" y="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 YORK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mmon Core State Standards (CC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8380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12.nysed.gov/ciai/common_core_standards/pdfdocs/nysp12cclsmath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7" descr=""/>
          <p:cNvPicPr/>
          <p:nvPr/>
        </p:nvPicPr>
        <p:blipFill>
          <a:blip r:embed="rId1"/>
          <a:stretch/>
        </p:blipFill>
        <p:spPr>
          <a:xfrm>
            <a:off x="1481040" y="1200240"/>
            <a:ext cx="645660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28240" y="20574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umber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that there are numbers that are not  rational, and approximate them by rational  numb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ons and Equ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ith radicals and integer ex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 the connections betw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rtional relationships, lines, and linear  equ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and solve linear equations and pairs of simultaneous linear equ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5"/>
          <p:cNvSpPr/>
          <p:nvPr/>
        </p:nvSpPr>
        <p:spPr>
          <a:xfrm>
            <a:off x="4191120" y="1981080"/>
            <a:ext cx="472428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, evaluate, and compare fun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functions to model relationships betw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ie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 congruence and similarity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models, transparencies, or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 and apply the Pythagor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real-world and mathematical probl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ing volume of cylinders, con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he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s and Prob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patterns of association in bivar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5:57Z</dcterms:created>
  <dc:creator>NYCDOE</dc:creator>
  <dc:description/>
  <dc:language>en-US</dc:language>
  <cp:lastModifiedBy>Buenaventura Ramil</cp:lastModifiedBy>
  <cp:lastPrinted>2013-09-18T15:27:38Z</cp:lastPrinted>
  <dcterms:modified xsi:type="dcterms:W3CDTF">2015-09-17T21:25:04Z</dcterms:modified>
  <cp:revision>32</cp:revision>
  <dc:subject/>
  <dc:title>MATH CURRICULUM</dc:title>
</cp:coreProperties>
</file>